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8AD-6BD7-4A9A-88B8-01681D5C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62E-BFF0-40DE-B463-B5CBEDCD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103-71B6-4BA0-B696-59E1A844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A36-03C3-4290-AA71-8758EF72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B161-7FCB-4111-A574-7741643D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393D-337A-429D-9B91-82E4FD2F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FCB1-EA31-4C78-8977-2BE4921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1A0-A435-4925-A710-46C2BAD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ABF-EEB6-4F86-B7A9-63950F2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A528-2B13-485D-9DF7-19FC3B1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EC0D-2C09-4537-B029-33B1C02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876-9D07-4671-83CB-90274AC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5A53-E865-4479-AB33-E9D904C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E65F-B0B0-40D3-8D92-1410BFF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99BC-81A4-4611-9487-CDEA66A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23D4-6972-4FA4-B66C-4C8B8D65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63C6-C2F0-4120-AC5E-51214438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5D3-2745-4BEA-A712-669405E1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93E-0B30-4101-91B1-C1BD9279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B0D-2AB2-414F-9ABC-A387EB83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A97-2B75-4D8F-BC32-F6EB797E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1DB-450E-441D-BC1D-076876D6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AEB-028C-492D-9ABA-CA53CAA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F38-C804-4F4C-991E-54BF55D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C36A-2DAB-4A73-91D0-F21101CC0C0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ABE1-66B6-4868-B334-331F6D9B649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a Sal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casa Bonit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0007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Pictures Beautiful Kitchens Beautiful Kitchen Slideshow"/>
          <p:cNvPicPr/>
          <p:nvPr/>
        </p:nvPicPr>
        <p:blipFill>
          <a:blip r:embed="rId1"/>
          <a:stretch/>
        </p:blipFill>
        <p:spPr>
          <a:xfrm>
            <a:off x="2057400" y="2933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7150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410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8:07Z</dcterms:created>
  <dc:creator>mangiarattilau</dc:creator>
  <dc:description/>
  <dc:language>en-US</dc:language>
  <cp:lastModifiedBy>mangiarattilau</cp:lastModifiedBy>
  <dcterms:modified xsi:type="dcterms:W3CDTF">2011-03-30T18:07:39Z</dcterms:modified>
  <cp:revision>2</cp:revision>
  <dc:subject/>
  <dc:title>Es una Sala </dc:title>
</cp:coreProperties>
</file>